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995-5107-46AC-8C2C-FD363B8C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3BA2-14F1-42F8-9C91-95A2DE24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C07-7AEC-405F-B011-50BA8992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6B0-B184-40E5-A617-1EF232B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64C-A002-43B8-BA84-9D2B324B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2EB-7833-4649-9082-62AF0CED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70E-92CE-4E43-99B9-E1EFED2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1C8-A603-4DF9-BD76-E5F190A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650-45E0-4B38-8B29-2CA1820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E47-EA11-4CFB-97BA-04A14F6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C92-E93F-4698-AA65-496F998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5B8-8731-4FBC-9EDB-D221E8ED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AA4-76D1-4317-9232-F1FA6E54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025-B718-4E46-AEF5-0A9D305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775B-2DEE-4EEF-9066-EE652D426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Joselly.  Yo vivo en la ciudad Astoria.  Tengo catorse años.  Yo no tengo hermanos. Soy sí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0988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, quiero va al par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m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    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quieres hacer? Estoy aburrido.            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38080" y="60958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2Z</dcterms:modified>
  <cp:revision>107</cp:revision>
  <dc:subject/>
  <dc:title>Profile</dc:title>
</cp:coreProperties>
</file>